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  <p:sldId id="292" r:id="rId60"/>
    <p:sldId id="293" r:id="rId61"/>
    <p:sldId id="294" r:id="rId62"/>
    <p:sldId id="295" r:id="rId63"/>
    <p:sldId id="29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slide" Target="slides/slide37.xml"/><Relationship Id="rId61" Type="http://schemas.openxmlformats.org/officeDocument/2006/relationships/slide" Target="slides/slide38.xml"/><Relationship Id="rId62" Type="http://schemas.openxmlformats.org/officeDocument/2006/relationships/slide" Target="slides/slide39.xml"/><Relationship Id="rId63" Type="http://schemas.openxmlformats.org/officeDocument/2006/relationships/slide" Target="slides/slide40.xml"/><Relationship Id="rId64" Type="http://schemas.openxmlformats.org/officeDocument/2006/relationships/slide" Target="slides/slide4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C5C-73FA-47F8-AFD0-B30EBB14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EF4-C683-4196-92C7-E1466C8C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958CE-0365-406E-8987-C196584F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46E9E-D4AE-4D45-B5BE-6B449F0B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347CD-8E24-46C0-9DA8-44C19FD4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2AF70-E1B5-4F99-890B-FF11244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6D41A-AEBE-4334-8A3E-64F06966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0229A-DC5D-485E-BDA9-4CBA0199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F427D-E653-4ABC-A36B-9C96C06C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B6F80-CA97-4B28-BCA7-75C8A6CE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B5E81-9288-48BA-9302-BED03E05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A7DEC-BE94-4235-8E9C-56C65B26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702-C6CD-4A84-980A-8D576A1E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B7896-6764-4A52-90AC-D197C220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5FFB9-FB31-4353-B6C9-95F9C560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36E61-F65E-4DC6-A3F0-EE13B2BE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21733-F615-4C81-A53C-A8CC0CEA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E56DD-E6DB-4E05-BD87-3D3863AC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7D3E9-5DFE-4095-9BF9-87E287A5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61E84-9ECB-4584-8B97-67EFB41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8B94E-A108-4D85-8D87-C475EC70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F8351-1BDC-4C3B-911C-DCCB5A54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D1AA5-0104-446E-82EB-92230477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14C-DB5C-4977-8E57-8966DF52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3223B-5C56-452A-B891-B6A05FB7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3E93A-4D91-4833-A420-C5C7CB7C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051FA-AB44-418F-A621-F3E4BF65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DCC95-1437-48DE-A978-BA1632FC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53CF8-9060-42D7-A905-6A1BBBB4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8E379-6885-476B-8035-FC2DBBB3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28BBE-4B79-409A-A457-037FAAF0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4D1B6-8711-4D9A-A2E7-4FBFA980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C9C81-7786-4833-AC01-517AAC7E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17C2F-601C-4426-84BC-8046A275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5B9B-869C-43C9-9BF5-A6FA72EA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85190-A6C8-41E5-A9B5-FB09AEDD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08F9D-BF0D-4EB3-8B04-DF796ED5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16C4E-790D-4CF6-BC06-B1572843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C4BFF-90B5-4AD6-A171-214CB98F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2F4BD-6BDD-4FCC-B1F1-52771996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90253-E76D-4E35-A2FE-CDC350B4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0CE24-4AEF-44FF-BD8E-80EA4F3E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1DAA7-5C10-4160-B5F3-F8B7C406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70230-1BB7-4ED2-BE2B-8D238FAD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F7C84-821E-4E6E-8463-628DFF8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46A3-E4F4-4262-AE5E-E5DECCEB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99CA9-7C0C-45D3-84FD-F5634600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1003E-AB6B-46E5-A0F1-9FB77BC8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5020B-A6DD-4374-906E-8B97BD8D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0797D-6C0E-4CF0-9BE1-50FC5874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D7822-5A55-400F-9C4D-7A2EE371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CF366-3F9F-443F-8739-353E4F70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6F934-85D4-43DF-B63F-EA39AF5F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11BEB-CAA7-4703-A3DB-23BFE20C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B5C1C-7871-4E79-BDA2-FCD78363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0E0C1-7809-4FC5-88B7-43078F76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737E-7B7C-4431-AB19-D4C2CF2E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016FE-122B-4A42-9F7C-CB3D18F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5A3F9-6860-4A41-AB02-C205577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1142C-4800-487A-B432-D882229F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BB37E-8786-49D5-B5A4-62D57028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B72AE-9384-436D-A057-AC3219EC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6E450-660B-49D0-8CEC-7ED6A59B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DE9FB-4307-469E-84CE-FFF8A285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B652FE-7EEA-41B6-8F13-EBC1FE3F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31BC4-5555-41D4-8803-486DC4CD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746A8-4CE7-48E9-88C0-2893E581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5980-322F-4B51-AD56-295397DA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F427C-CBFD-4392-A9A3-F19E85B3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34CCC-D403-4C9C-9E95-9BABA285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87B20-B0FD-4C35-A0DB-4CA623AE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77DBC-A0A3-4F9A-B804-D4EA005B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DA33C-9FBF-489D-8E5F-8DF41333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9E821-48F8-4E10-A625-5798D89C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8CF87-79E0-4139-B671-9747C079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48496-3EA1-47A4-A422-73258FC5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A7C03-BF3B-4D5D-A251-3265C76D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00F78-49E8-47A2-9986-D585018A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FBFD-34F6-4445-9396-340CC7AB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15878-1641-43D1-BC7D-89593CE7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98440-EC6D-4829-B1BC-38B889AF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FD487A-6149-422A-8DB6-37F66762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967BA-385F-4B12-A5E2-E3343415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A05E0-3FEF-491C-8041-11B1A429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AEEBB-9BD5-4005-B418-D2B69766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5FA12-1B90-418B-8260-DAE5E0CE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04F64-8018-4F29-AB61-C98602D9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0A8BE-736C-44DD-87DD-1E88F129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5E98C-336F-4EE9-BAB2-B04D70F1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CD6B-BF08-47E5-8206-A0A88A4D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FE5C7-473A-49E6-B61D-F83BEC9E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770E62-7EF3-41CB-BE2A-7C905E65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FEB788-4CE5-4B3F-8875-50A56841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5EF33-F2AE-4580-B428-A75E0402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FF42A-036D-4872-87EE-56D59340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C32A6-933B-4D98-BFBB-25673835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78482-37C2-4B0C-B8B8-5E34B2BA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EAC69-AB7F-44E3-A7BF-7518B90D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9DD90-C108-4747-AD39-2A0A968D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0219A-3185-47E6-9071-F237B0C4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E54F-B2DA-4AE6-BE9F-7B502EE5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2E26D-FCF5-4637-A703-5DF709B8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6A350A-9368-43F5-961A-7C97C6AE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A1494C-A7B1-42FD-BC41-EDB53E5B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0482E-A1AC-4C3B-825A-AB9EDA65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C4212E-ABF7-4EFC-BA30-DEBF364C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9C8AF-1675-4586-85E8-3DC915A3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2C7A3-5549-4C18-A56D-E2424975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1145D-7E4F-48C3-B678-8DBF9473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E6AF0-8DB5-46E4-9DAA-9A7747F5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19088E-9937-4ACF-83E9-4BA4F908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7A5-7A55-4CC3-90C1-5BF312C3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6484-4942-44EF-8E0C-CA8255AB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D5797-53FE-4C4A-9C07-CF6B3E58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8FCC5-7075-4069-BADE-39A127A0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0007EE-ED3A-404C-A5B9-04B9AE1A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55553-AB6F-4FC1-BFA2-EBA3F622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229A8-5A12-4420-BCE1-4D2E1FE1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BBC3C-8D41-4096-89D4-64D585D1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E1FE6-79FB-4047-8704-19590A51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F738D-F2D3-46DE-823A-F4464DC4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B269E-5436-4778-A46B-868304C7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18DD34-351D-4EBE-B708-6B156931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7DF0-0C31-4E06-8FFD-24771ED3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6F187-0CE6-418A-95B3-D84C436E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1AA04-FB99-404B-8C58-6131F7A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EA05D-8160-44A4-8A44-512A9DBA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F8EEE8-37A6-4CF4-8E3C-0C511062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D7E941-E802-43ED-A7AD-F3B55D34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A5F87-B6DF-40B2-B330-E63284AE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760A5-809A-4C6C-9E7A-D262111C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D7509-CB16-4584-A2E9-09C89885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A591E-73B5-42F5-8BCB-03F44FAD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22A18-BC68-4242-B7BC-465A7DF5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118C-2E59-4A6B-8FF5-A482160E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7D8F3-FAF2-4C9D-B163-7FCCBCB8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24911-D3D4-4537-90B5-47A9DA7A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A7ABA-2A0F-49D1-A743-A75C68F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97C953-891A-495E-B26E-423EBC5B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80835E-DCF2-4D8C-808F-943A8CBE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A3D50D-49FD-48CE-ADC1-95CBC761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A0E3FF-811B-408B-B0B8-B1430CC5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D4915A-77D0-4BD1-96BB-B46AD0D7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C128E-4C6B-469F-AF77-4B857D2A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94310-C0CA-488A-87FE-4AF100E9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F101-D39E-4B1F-B366-6F41B1C5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2F6A4E-07EB-440A-8149-313EEC7B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3111C4-5CF8-45FD-A44B-36E93A72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F1D93-40F9-46D0-8E6D-304D4973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DFC4F-4647-4E0B-9AE4-E1DE072B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E53DC1-64E6-4F3E-A14E-DC3C3BA4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8D76F-335A-4499-A1B7-2509A30D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CC49E-73BC-47AF-8BF8-AA7C0FBB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5865BF-B810-4493-A3E3-C99A4656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B39A7-0199-428C-9A80-C5B1B912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E6545-6138-47F8-90C5-47B1B93D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8CF7-1919-459A-BADD-DD78D2DC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5569E8-71CD-475E-B505-13BB5301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4A3FB-51B9-4B52-893A-621084C5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21C280-65D2-4CF0-81EF-53061412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9D5EB7-33E6-4211-9456-F31AFEA2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D403B8-2894-44AE-91D7-808AF60A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5C6162-2871-412A-B62A-100CB8D2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ABE4A-7BBA-42C4-A4E1-45001902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77AB24-2164-4138-BBE5-1F91CE8F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D1F083-7ED0-4BA0-B3EC-CB543333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9A476E-BCAC-45E2-AADF-70C3593F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548C-A64B-4335-9DCC-1792B706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74661B-63EB-4B4C-89B0-E713B454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76F927-2934-4855-B8B9-44A9510B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2A9677-3C1C-4C4F-98EB-DD94C1C8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55BE18-DA86-491F-928E-26684B60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D1559D-1769-4CCF-9F2D-6F2518F8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B5EEAF-E870-45E0-94A1-C840C722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D0869B-7D67-4728-B1AF-DD63A38B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258E47-38CD-43EB-A6F0-88B6784D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5D0EEF-6D3F-49A7-92A9-E6C3CF6A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54C302-F1C6-4E97-B554-A33A800E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F888-7AE9-4B41-8BA8-C9A5C681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489A94-15EA-434B-8426-22AC9A85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45497C-7715-4538-8EDE-4A42976D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D1E2DA-D29C-475E-BE4F-CDC7B78D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7BDE60-4AC7-42FB-B23F-4205A9AC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545F0D-61CC-4649-A384-33768DA9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7FEE4-5066-4CE7-B9A4-02080849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CE33-A7C7-4826-8324-0BF665E4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4555-58BB-4AE2-893A-EC23A586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6B8-CE20-4D8B-97C6-EC4C7C52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DF5F5-0D62-4D14-8412-4B243291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B8319-497E-47EB-AF50-5F0CD0E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C646-F585-4869-8CA3-9CF1D452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835D9-AF40-4DA8-BC35-5CAD46D2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5651-4F35-4BB0-B84D-F45F95F1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5A86-CFA8-4917-BB10-8270B962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5BED1-673B-4F9E-938C-2C1FE122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192D-1150-474C-879F-87752106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14FFC-BA2C-4C74-8D3B-D68BF838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6D26-2C0F-4601-93A1-1BF69CF5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2BE-720F-4765-B794-5295C173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29595-793F-4588-A98F-636F46D7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5AE5-B28E-4CF1-922B-1CED2228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6064A-6484-4932-B021-61484607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0F82-24E5-4887-8F2E-D8B4CFA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FDA64-59E6-44DF-872E-5BBA4BB3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EB6A4-2F9B-481E-9964-95D09740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44ECF-5C85-4521-BF6A-52E799D3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506EE-7A86-488B-8312-B3B48F76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63B5-561D-4D9F-A7C5-000AFF92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4D7B8-6C97-4E8D-9E36-6B2E634E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311-10A6-40F8-A2FC-64EA7EF1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C7F6C-E188-47B1-B865-2DBB57F8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E2B2F-2764-4A5F-BB81-EB94E6F5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FA8F8-2818-413E-A11B-05CCA3D6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22597-B334-4C7E-92BF-1E0688F1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BAFA5-EAF2-45DC-AEA0-04B6C839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70137-6C5A-440C-B65D-F83E3FB8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98E8-B031-4F82-A9AE-BA3E960C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629A2-1024-430E-98DC-F85DE3B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55A19-C464-4E4F-AA09-424C9260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AFCC4-7A19-4908-BE2B-041E5BD8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35F-B8A0-491B-8376-5732F90F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78B8B-119D-4A38-B01A-04F88BF3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750D0-6282-47B6-9EF7-0FE0193C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AB9A2-DE55-4C38-9BC1-7E901AB1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A7057-B334-44DC-925C-3642ADD6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8A8CA-3FDD-41EE-A18D-A1FE2BD7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44748-3D11-4AE9-B1A9-65DA7041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54BA-7A3B-4C22-A554-1F125585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408A-EDB1-4E0C-A6DD-0865504D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29740-B417-4BDE-99B7-60C73A93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A26D2-A9F0-46A4-9219-FA3AF46A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9AB-0222-4B37-A0E9-15743B0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88C1B-26F9-4A07-8ED3-32075B9B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D52DB-2B40-49E2-BCD5-7477CEAF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9D7F-3E14-4848-8EBB-6D0E1FB2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EBB5F-8132-4D92-A8A2-CEECF6E9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D58D2-8ACD-47AD-98A7-5F185D21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E849-710C-4B2C-A8FA-91AD0A47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861CB-1FCE-4AFB-B3A7-71C7C4E2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271A3-8D32-4989-9E85-8856D0B0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17E65-42BD-4176-886E-4780EC3A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50CDD-D61D-46EC-8F41-64732A70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98E-C7DB-4B11-93FB-9E65754F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87683-3FFD-42DE-98A3-CF09C881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EA956-30FC-4168-AEC5-1F79CA78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1C211-31C9-47A1-AF1E-6E131C7A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007D9-68E5-41AE-B027-98B9D8E1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0A6FA-8A8C-4816-B906-90F173FF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E67AA-BFDA-42ED-B19D-53E74DCD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1F350-2BB2-420A-AD12-A8C21DC5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CFD7F-76D8-458C-8AE4-61A4EC56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C6BD0-99C3-4096-887A-D6C8C46E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1972F-E0AB-46C7-809A-77B56EAB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E5C-09AE-4B5C-A124-6812AE53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20CC6-2F9B-48E5-8000-9C8061F6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74381-2126-4B22-9DE9-F765DF87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42577-4D98-40DA-90CC-74F5C64E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61566-7247-4AAB-BF87-E755F51B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DC0CF-F246-47DD-8C72-F07B3D99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23E21-DC70-4A13-86D4-BF0BFF78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1A4CF-7455-41EF-B9E2-CB0B35E1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84398-DB8A-4789-A821-3EDDB43F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80935-FF83-45C4-B09C-C04927C3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D3BA3-E015-4D12-B322-F1E3B0C5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624F-2451-4A29-98FE-E68E2FED75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9AEC-C4BA-4A47-B72D-CA94EA2D08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1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010A-18A6-4E09-8F2C-3223EA86FE6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8BE3-D98F-4966-94E6-2FEC88CAD1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0888-96C2-4038-801E-E775CE9C67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BB28-352B-4408-B9DC-0FF6E0AA5C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80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583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89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1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28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629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0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2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3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4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5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6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7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8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9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0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3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6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9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1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7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77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678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0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691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697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698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3" name="PlaceHolder 1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50F3-0784-4EBA-9D72-E3A1994462E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745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748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54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56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93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794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5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6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7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8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9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0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1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3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4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5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8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9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9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6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842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843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5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863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C792-95B2-4C6D-ABF4-D6EBCB8458B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1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1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2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4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6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96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5108-C886-4BD8-BE2F-DB51F18F82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1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1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2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4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6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07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944A-2E20-4CA2-A5ED-2FFF054430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119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C361-03CB-4655-9F28-1E31795C1D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632-D8C2-4763-8F4B-3578313520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166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75FA-9B5A-4A0C-9986-A8595CC77F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801C-48A2-4E3A-BB02-3521DE852F0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ftr" idx="6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4BAC-E660-48CF-9E2B-4C058D1FF76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B233-5F97-497F-AC26-2F15E66904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6E07-5BDC-4871-B7AA-64DBCB2AD0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A062-C98A-4BEF-8B49-07D32423EF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067F-F2EA-4F16-9DFB-31768BF733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78B3-12CD-416A-8C29-178642524D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D849-CA23-4317-9D4C-EF6DBCE87A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D4A6-230F-446C-B2D9-39BFA0DA30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A1%A4%B8&#500;%C4&amp;in=17878&amp;cl=2&amp;cm=1&amp;sc=0&amp;lm=-1&amp;pn=53&amp;rn=1&amp;di=717930532&amp;ln=2000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A1%A4%B8&#500;%C4&amp;in=5821&amp;cl=2&amp;cm=1&amp;sc=0&amp;lm=-1&amp;pn=46&amp;rn=1&amp;di=1979244092&amp;ln=2000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B8&#500;%C4&amp;in=3189&amp;cl=2&amp;cm=1&amp;sc=0&amp;lm=-1&amp;pn=146&amp;rn=1&amp;di=1578750761&amp;ln=2000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B8&#500;%C4&amp;in=18114&amp;cl=2&amp;cm=1&amp;sc=0&amp;lm=-1&amp;pn=149&amp;rn=1&amp;di=1601096896&amp;ln=2000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B8&#500;%C4&amp;in=12780&amp;cl=2&amp;cm=1&amp;sc=0&amp;lm=-1&amp;pn=157&amp;rn=1&amp;di=1025068241&amp;ln=2000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1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1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4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A1%A4%B8&#500;%C4&amp;in=32365&amp;cl=2&amp;cm=1&amp;sc=0&amp;lm=-1&amp;pn=69&amp;rn=1&amp;di=2777864844&amp;ln=2000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9ac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0039ac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0039ac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一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8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班   第五周班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忠告一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： </a:t>
            </a:r>
            <a:br>
              <a:rPr sz="4400"/>
            </a:b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生活是不公平的，你要去适应。 </a:t>
            </a: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忠告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这个世界不会在意你的自尊，而是要求你在自我感觉良好之前先有所成就。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335772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忠告三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刚走出学校不可能一个月挣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万美元，更不会成为公司的副总裁，拥有一部汽车，直到你挣到手的那一天。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2781360"/>
            <a:ext cx="2563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四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如果你认为学校里的老师太严厉，等你有了老板时再回头想一想。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3357720"/>
            <a:ext cx="31831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卖汉堡不会有损你的尊严。你的祖父母对卖汉堡有不同理解，将它称为「机遇」。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284640"/>
            <a:ext cx="254484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如果你陷入困境，不是你父母的过错，不要将自己应承担的责任转嫁他人，而要从中吸取教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64280" y="4508640"/>
            <a:ext cx="29797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在你出生之前，你的父母并不像现在这样乏味。是因为这些年来一直在为你洗衣服、付账单，他们才变成今天这个样子。所以，在对父母喋喋不休之前，先去打扫自己的屋子吧。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508720" y="4149720"/>
            <a:ext cx="3109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八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你的学校也许已经没有优等生和劣等生之分，但生活却并不如此。有些学校已经没有「不及格」的概念，学校会不断给你机会让你进步，但现实生活完全不是这样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25336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走出学校后的生活不像在学校有学期之分，也没有暑假。没有几位老板乐于帮你发现自我，你必须靠自己去完成。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4" name="" descr=""/>
          <p:cNvPicPr/>
          <p:nvPr/>
        </p:nvPicPr>
        <p:blipFill>
          <a:blip r:embed="rId2"/>
          <a:stretch/>
        </p:blipFill>
        <p:spPr>
          <a:xfrm>
            <a:off x="7020000" y="4005360"/>
            <a:ext cx="186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许多电视中的场景绝不是真实生活。在现实生活中，人们必须努力做自己的工作，而不是像电视中那样天天泡在咖啡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318312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十一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善待你所厌恶的人，因为有一天说不定你会为这样的人工作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0" name="" descr=""/>
          <p:cNvPicPr/>
          <p:nvPr/>
        </p:nvPicPr>
        <p:blipFill>
          <a:blip r:embed="rId2"/>
          <a:stretch/>
        </p:blipFill>
        <p:spPr>
          <a:xfrm>
            <a:off x="6012000" y="3284640"/>
            <a:ext cx="2647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比尔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盖茨给中国学生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1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条忠告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24000" y="1746000"/>
            <a:ext cx="8540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一给自己一个梦想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二找准目标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三选择积极的心态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四秉持自己的个性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五添几分冒险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六学会创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七主动去敲机会的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八别不把学习当回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九管理好自己的时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十保持充沛的精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十一不达目的不罢休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2"/>
          <a:stretch/>
        </p:blipFill>
        <p:spPr>
          <a:xfrm>
            <a:off x="5875200" y="1989000"/>
            <a:ext cx="242100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 txBox="1"/>
          <p:nvPr/>
        </p:nvSpPr>
        <p:spPr>
          <a:xfrm>
            <a:off x="900000" y="112536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身边的榜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355" name=""/>
          <p:cNvSpPr/>
          <p:nvPr/>
        </p:nvSpPr>
        <p:spPr>
          <a:xfrm>
            <a:off x="1116000" y="3213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发现身边同学的好习惯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      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不良习惯“现象”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上课了，有的同学才手忙脚乱的翻找试卷、练习本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考试前想到了一个题，但就是忘记记在哪里了，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考试失败的原因：“看错题了”；“答案涂错了”；“看错要求了” 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24000" y="4365720"/>
            <a:ext cx="79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、简单题没耐心做，困难题没恒心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简单事不屑做，    困难事胆怯做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小事做不来，        大事做不成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不良习惯“现象”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早晨上学迟到的理由： “闹钟没响”；“自行车坏了”；“看错时间了” 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“两操”迟到，跑操不好，不认真锻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自习课玩耍，说小话，学习不专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不认真看书复习，每天只是应付作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随地扔垃圾，不将废弃物放入指定位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值日、清洁劳动不认真，应付了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好习惯结好果 坏习惯酿恶果</a:t>
            </a:r>
            <a:br>
              <a:rPr sz="4800"/>
            </a:br>
            <a:r>
              <a:rPr b="0" lang="zh-CN" sz="2400" spc="-1" strike="noStrike">
                <a:solidFill>
                  <a:srgbClr val="0033cc"/>
                </a:solidFill>
                <a:latin typeface="隶书"/>
                <a:ea typeface="隶书"/>
              </a:rPr>
              <a:t>——我们可以养成的好习惯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4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永远信守承诺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安排好作息时间，上学上课不迟到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从来不忘记每天复习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快速处理各种琐碎的事务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上课积极倾听，认真听讲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不仅要做计划，而且要马上实施行动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讲究个人卫生，爱护学习、生活环境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与人交谈时，保持良好的姿势和微笑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保证每天的饮食健康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锻炼身体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多读有益的书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控制情绪和脾气，用和平方式解决矛盾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给家人或朋友打电话或写信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如何养成成功的习惯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行为心理学研究表明：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以上的重复会形成习惯，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90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的重复，会形成稳定的习惯，即同一个动作，重复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就会成为习惯性动作。同理，同一个想法，重复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，或重复验证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次，就会变成习惯性想法。所以，一个观念如果被别人或是自己验证了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次以上，它一定已成为你的信念，塑造一个良好的习惯，大致有三个阶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700360" y="18864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c0039"/>
                </a:solidFill>
                <a:latin typeface="幼圆"/>
                <a:ea typeface="幼圆"/>
              </a:rPr>
              <a:t>播种习惯 </a:t>
            </a:r>
            <a:r>
              <a:rPr b="1" lang="zh-CN" sz="4800" spc="-1" strike="noStrike">
                <a:solidFill>
                  <a:srgbClr val="8c0039"/>
                </a:solidFill>
                <a:latin typeface="Arial"/>
              </a:rPr>
              <a:t>·  </a:t>
            </a:r>
            <a:r>
              <a:rPr b="1" lang="zh-CN" sz="4800" spc="-1" strike="noStrike">
                <a:solidFill>
                  <a:srgbClr val="8c0039"/>
                </a:solidFill>
                <a:latin typeface="幼圆"/>
                <a:ea typeface="幼圆"/>
              </a:rPr>
              <a:t>收获成功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68421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步一步的走，漫漫长路有尽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针一针的缝，褴褛之衫变天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砖一瓦的垒，铜墙铁壁耸云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片一片的积，万丈雪层深似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ep and then another, and the longest walk is 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itch and then another, and the longest rent is m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brick upon another, and the tallest wall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flake and then another, and the deepest snow is lai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2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ff3300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698688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大处着眼，小处着手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百尺高台，起于垒土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当你从小处入手，并借助积累的力量，那么改掉习惯也将变得十分容易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你每天早晨的想法将决定你一整天的表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Your morning thoughts may determine your conduct for the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威廉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M 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派克（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William M. Peck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3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33ff"/>
                </a:solidFill>
                <a:latin typeface="Arial"/>
              </a:rPr>
              <a:t>习惯可以改变的，只要不断重复就可以了。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有一句话是：思想决定行动，行动决定习惯，习惯决定性格，性格决定命运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今天这个游戏告诉我们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3454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何度过早晨，决定了我们日常行为规律是否能发挥它潜在的威力。它究竟是由好习惯构成，还是被坏习惯充斥，早晨的时光将彻底揭示问题的答案。如果我们希望自己不至于一生碌碌无为，并能够最大限度地发挥潜能，那么，养成有效利用早晨时光的良好习惯将至关重要。</a:t>
            </a:r>
            <a:r>
              <a:rPr b="1" lang="zh-CN" sz="3200" spc="-1" strike="noStrike">
                <a:solidFill>
                  <a:srgbClr val="ffcc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每天晚上总结一下自己一天里所做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um up at night what thou has done by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罗德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赫尔伯特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(Lord Herbe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天中的第二个关键时刻出现在晚上。在心中默默整理和评价一下自己一天中完成的事情，并规划好自己第二天应该做的事情，对于第二天早晨是否能够正确做好计划，以及是否能够拥有一个良好的开端至关重要。制定一天的计划，并坚持执行计划，将让你的工作变得效率更高成绩更大。如果，每一天你都无法完成自己希望完成的事情，那么，你应该反躬自问一下，症结或许就在于缺乏计划。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幼圆"/>
              </a:rPr>
              <a:t>播种习惯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·  </a:t>
            </a: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幼圆"/>
              </a:rPr>
              <a:t>收获成功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——事先制定计划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20072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在成功实现目标的人群中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事先制定   计划者高达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78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☆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在改变或培养好习惯的努力过程中，还有一个关键的要素，那便是他人的支持。亲人、朋友，或者同学，都可以成为支持、鼓励、激励你的人选，或成为友善的提醒者——他们完全有可能决定我们究竟是成功地改变生活的某个方面，还是继续糟糕的现状。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186920" y="1267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Arial"/>
                <a:ea typeface="华文行楷"/>
              </a:rPr>
              <a:t>习惯无处不在</a:t>
            </a:r>
            <a:br>
              <a:rPr sz="6800"/>
            </a:b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             ——学习习惯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331640" y="3284640"/>
            <a:ext cx="6838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学习成绩的好坏，往往取决于是否有良好的学习习惯，特别是思考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       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总是站在系统的高度把握知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很多同学在学习中习惯于跟着老师一节一节的走，一章一章的学，不太注意章节与学科整体系统之间的关系，只见树木，不见森林。随着时间推移，所学知识不断增加，就会感到内容繁杂、头绪不清，记忆负担加重。事实上，任何一门学科都有自身的知识结构系统，学习一门学科前首先应了解这一系统，从整体上把握知识，学习每一部分内容都要弄清其在整体系统中的位置，这样做往往使所学知识更容易把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        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追根溯源，寻求事物之间的内在联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学习最忌死记硬背，特别是理科学习，更重要的是弄清楚道理，所以不论学习什么内容，都要问为什么，这样学到的知识似有源上水，有木之本。即使你所提的问题超出了中学知识范围，甚至老师也回答不出来，但这并不要紧，要紧的是对什么事都要有求知欲，好奇心，这往往是培养我们学习兴趣的重要途径，更重要的是养成这种思考习惯，有利于思维品质的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5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        </a:t>
            </a: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学习好习惯</a:t>
            </a: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(3)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发散思维，养成联想的思维习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在学习中我们应经常注意新旧知识之间、学科之间、所学内容与生活实际等方面的联系，不要孤立的对待知识，养成多角度地去思考问题的习惯，有意识地去训练思维的流畅性、灵活性及独创性，长期下去，必然会促进智力素质的发展。知识的学习主要通过思维活动来实现的，学习的核心就是思维的核心，知识的掌握固然重要，但更重要的是通过知识的学习提高智力素质，智力素质提高了，知识的学习会变得容易。所以上面讲的学习的三个学习习惯实质上是三种思维习惯。学习的重点就是学会如何思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2500"/>
              </a:spcBef>
              <a:buClr>
                <a:srgbClr val="0075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启示：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有自己的错题本、袖珍笔记本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掌握“通法”，用它解决一类问题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听课抬头、自习埋头、走路昂头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定期整理学习资料，做到有序存放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狠抓基础，不懂就问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注重预习和复习，独立完成练习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cc"/>
                </a:solidFill>
                <a:latin typeface="Arial"/>
                <a:ea typeface="华文彩云"/>
              </a:rPr>
              <a:t>讨论与学习</a:t>
            </a:r>
            <a:br>
              <a:rPr sz="7200"/>
            </a:b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——习惯意义非凡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684000" y="2997000"/>
            <a:ext cx="708804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列举几个自己希望改掉的坏习惯，以及期望养成的好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6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2563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Arial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6767ff"/>
                </a:solidFill>
                <a:latin typeface="Arial"/>
                <a:ea typeface="隶书"/>
              </a:rPr>
              <a:t>坏习惯与命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562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有一家食品公司要招聘一位卫生检测员，一位衣冠楚楚、气度不凡的年轻人自信地走进了总经理办公室，他优雅的谈吐，扎实的专业知识赢得了总经理的好感，没想到就在年轻人转身离开的时候，他下意识抠了一下鼻孔，这个不起眼的小动作并没有逃过总经理的眼睛，结果可想而知，一个没有良好卫生习惯的人怎么能够做卫生检测员呢？当然，年轻人到死也不会知道是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抠鼻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坏习惯毁了他的工作，使到手的饭碗落入了他人之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华文彩云"/>
              </a:rPr>
              <a:t>与大家共勉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1186920" y="3284640"/>
            <a:ext cx="74883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华文行楷"/>
              </a:rPr>
              <a:t>即使是痛苦的，我们也要去养成好的习惯；因为如果不这样，坏的习惯会让我们更痛苦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ffffff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一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8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班   第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周班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，在武汉某高校研究生考点外，一考生被几个保安人员拦下，被告知超过了规定入场时间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，眼睁睁地失去了考试资格。该考生说，为了专心备考，他辞掉了网络公司的工作，牺牲了很多东西，到头来却因为这个缘故被拒之门外。在上海，也有考研生因为进不了考场而痛哭流涕，其中一位不断向老师苦苦哀求：“我为今年考研已经准备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我很有信心考上，老师给我一次机会吧。”类似的情形其他地方也存在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泪水，值得同情；规则，应该遵守。 须知，“守时”，既是一种行为规范，也是一种必不可少的品格修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高校的几位学者，有一次到国外参加会议期间，按照约定，拟与某一外国组织成员开个座谈会。不料，我们的这几位学者不知什么缘故迟到了几分钟。结果，对方彬彬有礼地退了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title"/>
          </p:nvPr>
        </p:nvSpPr>
        <p:spPr>
          <a:xfrm>
            <a:off x="2340000" y="-360"/>
            <a:ext cx="49687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6767ff"/>
                </a:solidFill>
                <a:latin typeface="Arial"/>
              </a:rPr>
              <a:t>坏习惯与命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d7da9"/>
                </a:solidFill>
                <a:latin typeface="Arial"/>
                <a:ea typeface="华文新魏"/>
              </a:rPr>
              <a:t>名人名言</a:t>
            </a:r>
            <a:br>
              <a:rPr sz="5400"/>
            </a:br>
            <a:r>
              <a:rPr b="0" lang="zh-CN" sz="2400" spc="-1" strike="noStrike">
                <a:solidFill>
                  <a:srgbClr val="007572"/>
                </a:solidFill>
                <a:latin typeface="Arial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  <a:ea typeface="华文新魏"/>
              </a:rPr>
              <a:t>——述说习惯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0773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如果你希望出类拔萃，也希望生活方式与众不同，那么，你必须明白一点——是你的习惯决定着你的未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If you want to distance yourself from the masses and enjoy a unique lifestyle, understand this——your habits will determine your future.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杰克</a:t>
            </a:r>
            <a:r>
              <a:rPr b="1" lang="en-US" sz="2800" spc="-1" strike="noStrike">
                <a:solidFill>
                  <a:srgbClr val="0033cc"/>
                </a:solidFill>
                <a:latin typeface="Gulim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坎菲尔德（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Jack Canfield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），全球畅销书《心灵鸡汤》的作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597672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幼圆"/>
                <a:ea typeface="幼圆"/>
              </a:rPr>
              <a:t>说说自己 关于“好习惯” “坏习惯” 的故事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 rot="5400000">
            <a:off x="5495040" y="2218320"/>
            <a:ext cx="377172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交流空间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9185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572"/>
                </a:solidFill>
                <a:latin typeface="Arial"/>
              </a:rPr>
              <a:t>让优秀从好习惯开始</a:t>
            </a:r>
            <a:br>
              <a:rPr sz="6600"/>
            </a:b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（聆听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IT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巨人的教诲）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492280"/>
            <a:ext cx="2660760" cy="385308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5372280" cy="2737080"/>
          </a:xfrm>
          <a:prstGeom prst="rect">
            <a:avLst/>
          </a:prstGeom>
          <a:ln w="0">
            <a:noFill/>
          </a:ln>
        </p:spPr>
      </p:pic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-360" y="1052640"/>
            <a:ext cx="77770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微软总裁比尔．盖茨给青年一代下列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点忠告： 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2:40:4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23:01Z</dcterms:modified>
  <cp:revision>56</cp:revision>
  <dc:subject>主题班会课件(分28大类): http://shop62905894.taobao.com</dc:subject>
  <dc:title>主题班会课件(分28大类): http://shop62905894.taobao.com</dc:title>
</cp:coreProperties>
</file>